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3AF-3250-4913-8098-98A16DD6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CD2-A06C-42DF-B34C-E54D4CE3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F1D-2EA0-454C-B480-A64A3991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334-9947-4896-BC28-3B84F4DE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DB1-E730-4252-8525-64CBE00A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079-6E1A-4DDC-800B-6D2CEB7D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11D-DF71-4B2A-887F-07086D16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301-F49F-4A35-9B9E-79A794AD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AE6-EBDB-4F25-BA49-776410AD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A8C-4181-4C48-837E-C4A81731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1DF-FC3D-4A38-93A2-8E2BCFB4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958-62A1-468D-87FC-DE395B36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7C11-5206-404B-94A3-A54BC1F60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894622lnkCImSXrf_ph" descr=""/>
          <p:cNvPicPr/>
          <p:nvPr/>
        </p:nvPicPr>
        <p:blipFill>
          <a:blip r:embed="rId1"/>
          <a:stretch/>
        </p:blipFill>
        <p:spPr>
          <a:xfrm>
            <a:off x="-45720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0"/>
            <a:ext cx="396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ا سيّدي خطئتُ إلي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من غُربتي أعدْتَن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2057400"/>
            <a:ext cx="4343400" cy="66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حبُّك ناداني أفاقَ غَفْوَ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نانُكَ ناداني أذاب </a:t>
            </a:r>
            <a:r>
              <a:rPr b="1" lang="ar-SA" sz="36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قسو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امَكَ أسجدُ لمجدِك أخشَع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ِن غُرْبَتي دَعَوتني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يا سيّدي لبَّيْكَ لبَّيْك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7111219eXbTqlfTt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57200" y="0"/>
            <a:ext cx="8686800" cy="88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abic Transparent"/>
              </a:rPr>
              <a:t>يا سيّدي خطئتُ إليك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ن غُربتي أعدْتَني 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عفوَكَ إلهي لِما فعلتُهُ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دمعةٍ وآهِ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abic Transparent"/>
              </a:rPr>
              <a:t> أنا سألْتُهُ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لِعدلِكَ أسجدُ لحُكْمِكَ أخشعُ (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مِن غُرْبَتي دَعَوتني إليك  يا سيّدي لبَّيْكَ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بَّيْ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054977" descr=""/>
          <p:cNvPicPr/>
          <p:nvPr/>
        </p:nvPicPr>
        <p:blipFill>
          <a:blip r:embed="rId1"/>
          <a:stretch/>
        </p:blipFill>
        <p:spPr>
          <a:xfrm>
            <a:off x="-295200" y="0"/>
            <a:ext cx="4867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43400" y="0"/>
            <a:ext cx="4800600" cy="10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ا سيّدي خطئتُ إليك</a:t>
            </a:r>
            <a:r>
              <a:rPr b="1" lang="ar-SA" sz="38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من غُربتي أعدْتَني 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يّها الحبيبُ الغفورُ نِعْمَ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بقُربِكَ تَطيبُ صلاتي نَغْمَتي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 لِحبِّكَ أسجدُ بقربِكَ أخشعُ 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ِن غُرْبَتي دَعَوتني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يا سيّدي لبَّيْكَ لبَّيْكْ 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USER</cp:lastModifiedBy>
  <dcterms:modified xsi:type="dcterms:W3CDTF">2002-11-12T16:09:48Z</dcterms:modified>
  <cp:revision>1</cp:revision>
  <dc:subject/>
  <dc:title>PowerPoint Presentation</dc:title>
</cp:coreProperties>
</file>